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9DAB-7AF8-49B4-AF90-4B99C9210A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mnitel: Italien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ostrada: Italienischer Inten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ange: Brit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Arcor: Deutscher Festnetzdienst- und Festnetztelekommunikations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Passo: Anbieter für Verkehrs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getel: Französischer Funk- und Festnetz-Anbe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ele.ring: Österreichischer Inte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.tel.o: Call by Call Anbieter in Deutsch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SIS Multimedia 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rmany.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Eurokom: Internationaler Funk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9AC-505D-4D0D-8FD2-0CD70B10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3CA-C092-49EB-BDDF-F86280FC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473-FE5C-4E5C-B761-C24AD8EA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137-3EB5-4289-90D3-2868122B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24A-438D-4411-B1F6-B51746CC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9B8-6F31-4A56-BCDE-1DDF2EF7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461-B246-4010-B7A3-C6944F86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FAE-DB41-49CD-A61E-AFD45CD5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C9C-55C1-437B-9CB6-15FD1E8B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2A5-7708-4981-B651-C4E1473A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811-1CB3-4D49-B4C9-14945BEA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4A1-2286-4E39-A994-14815CF4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F63A-E0A0-4EE3-BE4A-A187295D4F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week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320040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nnesmann%20logo" descr=""/>
          <p:cNvPicPr/>
          <p:nvPr/>
        </p:nvPicPr>
        <p:blipFill>
          <a:blip r:embed="rId2"/>
          <a:stretch/>
        </p:blipFill>
        <p:spPr>
          <a:xfrm>
            <a:off x="4572000" y="4257720"/>
            <a:ext cx="4267080" cy="1990800"/>
          </a:xfrm>
          <a:prstGeom prst="rect">
            <a:avLst/>
          </a:prstGeom>
          <a:ln w="0">
            <a:noFill/>
          </a:ln>
        </p:spPr>
      </p:pic>
      <p:pic>
        <p:nvPicPr>
          <p:cNvPr id="51" name="vodafoneAirTouch%20logo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267080" cy="160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943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y Christopher Houben EBS 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egins an immense publicity campaig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acts with its own campa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3. Dec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peats its offer of giving 5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adline for this offer is set to 7. Februar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1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„Wall Street Journal“ reports about a possible joint-venture between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8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nfirms talks about acquisitions within AOL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0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 give notice about a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nounces to increase its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O Klaus Esser announces the friendly takeover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Air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inal share exchange rate was set to 58,96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, which is the equivalent of 380 b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whole advertising campaign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st about 50 m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ectors Engineering and Automotive will be deme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recent takeover of Orange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has to be un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rench company Vivendi will recieve half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getel shares (which is 7,5%) as promis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5331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What i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smaller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better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0% of Western Europe‘s market volume was supposed to be in the hands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n the long ru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ould have grown faster and would have had the bett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tock capitalization will be worth 70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will be the 4. largest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t will serve 42 million mobile phone customers in 25 differen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ild%20connecting%20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82640" cy="282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eadquaters in Newbury/Great Britain and Düsseldorf/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Internet and the conventional telephone network activities will be coordinated in Düsseldorf, the rest in Newb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ntil now 88,91% Mannesmann shareholders accepted Vodafone‘s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map%20-%20from%20Barrett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72400" cy="542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 and its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20" y="6324480"/>
            <a:ext cx="36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Vodafone Presentation of 23. Dec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Future Pl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is constantly looking for opportunities to enlarge and/or cooperate with other foreign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concentrate more on the mobile phon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found a new internet company with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99072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What do you think of „hostile“ takeov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katz+mus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3248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wo companies and its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hareholder stucture and the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akeover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consequences and „What if..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and its future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as the takeover of the traditional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company by the relatively young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AirTouch justifi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ll there only be a couple of mega transnationals ruling the whole future business worl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ewsweek‘s Internet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newswee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net-Archiv of Wirtschaftswo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 www.wiwo.d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rtschaftsmagazin „Börse-Onlin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liner Morgen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üddeutsche Z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890, Foundation of the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„Deutsch-Österreichische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Mannesmannröhren-Werke AG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“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n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70, Outsourcing and investment in new areas such a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 1990: Establishment of Germany‘s first private mobile phone network D2: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Mobilfunk Gm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7 on, concentration on the Telecommunication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annesmann%20logo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2286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lecom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4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8600" y="6031080"/>
            <a:ext cx="41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Mannesmann Homepage www.mannesmann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,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beg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s a division of Racal Electronics P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, under the name of Racal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anuary 1985, „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“ is launched as UK‘s first cellular mobile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3 on, Formation of partnerships all over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30 June 1999,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merges with the U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irTouch Communications Inc.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 since it is known as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vodafoneAirTouch%20logo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2425680" cy="914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3805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Vodafone AirTouch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ertig%20fertig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71499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56960" y="62485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Source: Berliner Morgenpost 5. Februar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350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rivat: 3,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nks:85,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nvestmenttrusts and –fonds: 1,0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Companies: 2,6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s: 6,6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1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Hutchison Whampoa: 10,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reat Britain / USA Institutions: 32,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erman Institutions: 11,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taff: ~7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ocal and foreign privat shareholders: 32,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 foreign shareholders: 5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hareholder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2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ered the British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hat can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do better than the two companies together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ost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Rea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7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will expand much faster alone and has the bett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is worth much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e merger brings many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2. Octo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 newspaper „Times“ reported about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irTouch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ntions on taking over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12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s 4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 is enlarged to 53,7 own shares (= 242 billion 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23:11:09Z</dcterms:created>
  <dc:creator>Stoffel</dc:creator>
  <dc:description/>
  <dc:language>en-US</dc:language>
  <cp:lastModifiedBy>Stoffel</cp:lastModifiedBy>
  <cp:lastPrinted>2000-03-02T11:29:24Z</cp:lastPrinted>
  <dcterms:modified xsi:type="dcterms:W3CDTF">2000-03-22T22:06:56Z</dcterms:modified>
  <cp:revision>22</cp:revision>
  <dc:subject/>
  <dc:title>The History of Mannesmann</dc:title>
</cp:coreProperties>
</file>